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12193588" cy="6858000"/>
  <p:notesSz cx="678973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0"/>
            <a:ext cx="6789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dt" idx="19"/>
          </p:nvPr>
        </p:nvSpPr>
        <p:spPr>
          <a:xfrm>
            <a:off x="3844800" y="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Img"/>
          </p:nvPr>
        </p:nvSpPr>
        <p:spPr>
          <a:xfrm>
            <a:off x="87480" y="744120"/>
            <a:ext cx="661320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ftr" idx="20"/>
          </p:nvPr>
        </p:nvSpPr>
        <p:spPr>
          <a:xfrm>
            <a:off x="-360" y="942516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 type="sldNum" idx="21"/>
          </p:nvPr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30088-D808-4B2E-AB0B-303BFAC4A5A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87480" y="744480"/>
            <a:ext cx="6613200" cy="372132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Espaço Reservado para Número de Slide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46DBA-603F-43F6-AC2E-4F95AED4DB6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87480" y="744480"/>
            <a:ext cx="6613200" cy="372132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Espaço Reservado para Número de Slide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C19BB-DF89-4B2D-90C1-09442231ACD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87480" y="744480"/>
            <a:ext cx="6613200" cy="372132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Espaço Reservado para Número de Slide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8A4BA-662A-4DEE-8011-79B02577817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87480" y="744480"/>
            <a:ext cx="6613200" cy="372132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Espaço Reservado para Número de Slide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4F00A-29DC-423F-AE63-3C953F93416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87480" y="744480"/>
            <a:ext cx="6613200" cy="372132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Espaço Reservado para Número de Slide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EBCE2-FCE6-4499-A036-36288A0C64F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87480" y="744480"/>
            <a:ext cx="6613200" cy="372132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Espaço Reservado para Número de Slide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A1287-5518-4F32-BCBA-D7D3AF004DE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87480" y="744480"/>
            <a:ext cx="6613200" cy="372132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Espaço Reservado para Número de Slide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D4D7F-0BA1-445A-9389-441AC1FA2F4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87480" y="744480"/>
            <a:ext cx="6613200" cy="372132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Espaço Reservado para Número de Slide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F2010-5EA4-44A5-AAED-8269C42265F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5061-DB2D-4F56-B853-23E9FF9F3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2B38-F72E-4779-8BB2-C467E9109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7369-6E85-4A5C-9EB3-A032E2457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2DCD-74E4-4A33-9B3C-E4D4AA6FF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950C7-7699-4785-846C-202814634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6FDDC-481B-4DD2-AF5F-5CED32172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F40CC-9F5F-45C1-BB27-685C5AB4C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17295-E081-4899-AB98-AE13A2F6C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4223E-0AC9-4E2E-A9DE-D14903455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C14CB-4990-4DBC-8F41-878C667DE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8A229-5ABE-460F-8CAD-4152DF65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50A1-A4C0-4A12-9D7D-4567FF2DC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B723A-5EB6-4822-80C3-C07DC7B4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0F030-AB57-4CD5-ACC6-EEDFA7B7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EA994-10B1-4D40-93E2-2B8BA301B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15903-4FA2-47F2-B7F6-A565425A7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569C9-128C-493F-9CB3-E0C0F6EB3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FDB6C-FE4E-47BD-B453-4F3A1E219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92C00-E63E-4384-8C62-239CCD114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EB894-8690-4446-9F3D-DFEF10CD8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EA007-6B67-42E1-90D5-F7C9EF767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A6A92-6C8C-42D4-8306-8281EBA7E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42F5-9633-45BC-95D9-AD9D355D2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CCAD1-8C8A-4CD8-9728-CE73061DA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220B6-198B-4DB8-A020-7834CBB3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15C92-C4F6-4E7E-A5EE-78B065B5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4D5F9-06EF-4EAC-BCE3-066151ED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BF98C-F999-4C4C-88EC-4DF1DCA5A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2F390-7F7E-4153-B8E0-3BAA90E30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28FBB-6F40-4ED9-9906-3D1E5CA2D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E8BCE-64EF-4B49-A052-FB1645FDD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CF79C-4897-4F27-A6F9-4B04403E2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2426D-4426-44B8-A3E9-3A0017F70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F4A0-8D94-456F-8FA3-25FF39274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1EFF5-6C87-4E22-BFC3-9E9B5207A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80E74-E500-4D0A-9123-31C9EA214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E2E74-0362-4CA9-869C-DDEB87CA2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6DF42-9339-40AF-9E0F-28111E9F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76DA7-A00F-4C74-A9CE-EDEFCF46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5DAEB-E4ED-439A-9B2B-B69775804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3CCC6-8116-4F23-805F-894A92287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405E8-9338-49F6-97C5-D5B76A629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E2454-3C2A-441C-828D-0F8423A3D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F6CFF-C641-4919-BA12-5782AF9C8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B57A-39F4-43C0-BA6C-E43CF7262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8D639-A6A8-4D43-8185-69793558A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59CC6-87DC-4C8D-B78B-185B1E650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CCF3E-2A0C-4133-A9F8-ADF7A1D7B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048BD-3DE1-44BF-88CA-8F6853139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B6E6B-FF19-4C17-9149-3E04285D1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9CF1B-23DD-41B0-882D-EF58C4E3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12B0E-4E07-4C01-AC79-1FC69BCE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3BB9C-33DB-480E-B719-75E98B57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319A6-16FA-4A31-8208-357E8888A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B89A7-AF3A-47D4-A24B-4BA957FC1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7ABC-786A-4611-82C8-73FFEB478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5AA99-0692-40D7-97EC-F2BE3F455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6474A-F198-4E3F-A68B-1957CD3EC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C3169-05C6-4129-8602-BA7B298AF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14BE1-1EFE-4BEC-8AB2-578873428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8F6BE-0C2E-4469-AD99-896997688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2C497-104A-478B-ABAD-9CD05CB69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1ECA0-FB25-49D2-A5DD-300D4AD5C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E4E2D-EC8E-436C-8C12-8FA2EAC0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970CC-29CA-4C02-BBC5-817F4395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B44EA-2F95-45CD-B452-476D1B81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0B2F-6805-429E-89BE-B8B8567F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BF16EC-D807-4397-93D1-01672B137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A07CE-9D49-4C43-BFA5-C9CADAEFD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4E8A7-CEB0-4EC3-A3C1-2F96E7378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90B7-4458-4F1E-A7DD-7A020949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6164-138B-4BA8-9FB2-D74C6648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m 2" descr=""/>
          <p:cNvPicPr/>
          <p:nvPr/>
        </p:nvPicPr>
        <p:blipFill>
          <a:blip r:embed="rId2"/>
          <a:stretch/>
        </p:blipFill>
        <p:spPr>
          <a:xfrm>
            <a:off x="12600" y="0"/>
            <a:ext cx="121665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EA911-5050-4EC4-BC04-AB9E4F16711F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2E099-A25F-4936-932B-EDBE0103F9E7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Imagem 2" descr=""/>
          <p:cNvPicPr/>
          <p:nvPr/>
        </p:nvPicPr>
        <p:blipFill>
          <a:blip r:embed="rId2"/>
          <a:stretch/>
        </p:blipFill>
        <p:spPr>
          <a:xfrm>
            <a:off x="12600" y="0"/>
            <a:ext cx="1216656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4DEE9-C892-4AA0-980C-E906BA26BAC7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CB68A-EFBA-42E5-863A-23F02B700902}" type="slidenum">
              <a:rPr b="1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Imagem 2" descr=""/>
          <p:cNvPicPr/>
          <p:nvPr/>
        </p:nvPicPr>
        <p:blipFill>
          <a:blip r:embed="rId2"/>
          <a:stretch/>
        </p:blipFill>
        <p:spPr>
          <a:xfrm>
            <a:off x="12600" y="0"/>
            <a:ext cx="1216656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0B4A8-1507-423A-931F-7DE45ADF107B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2F4B5-CCB1-45E9-AD89-0B8ED88ECE1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Imagem 2" descr=""/>
          <p:cNvPicPr/>
          <p:nvPr/>
        </p:nvPicPr>
        <p:blipFill>
          <a:blip r:embed="rId2"/>
          <a:stretch/>
        </p:blipFill>
        <p:spPr>
          <a:xfrm>
            <a:off x="12600" y="0"/>
            <a:ext cx="1216656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BB03A-E836-49E5-944F-D8D3A3F148F4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5AB97-62EA-408F-8FCD-4252716A232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Imagem 2" descr=""/>
          <p:cNvPicPr/>
          <p:nvPr/>
        </p:nvPicPr>
        <p:blipFill>
          <a:blip r:embed="rId2"/>
          <a:stretch/>
        </p:blipFill>
        <p:spPr>
          <a:xfrm>
            <a:off x="12600" y="0"/>
            <a:ext cx="1216656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Retângulo 7"/>
          <p:cNvSpPr/>
          <p:nvPr/>
        </p:nvSpPr>
        <p:spPr>
          <a:xfrm>
            <a:off x="11106000" y="6356520"/>
            <a:ext cx="384480" cy="501480"/>
          </a:xfrm>
          <a:prstGeom prst="rect">
            <a:avLst/>
          </a:prstGeom>
          <a:solidFill>
            <a:srgbClr val="92d05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84CF6-884F-48DD-BCFB-B5108222AF18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DB8F-A5D6-4883-B04A-F6FD041DA46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Imagem 2" descr=""/>
          <p:cNvPicPr/>
          <p:nvPr/>
        </p:nvPicPr>
        <p:blipFill>
          <a:blip r:embed="rId2"/>
          <a:stretch/>
        </p:blipFill>
        <p:spPr>
          <a:xfrm>
            <a:off x="12600" y="0"/>
            <a:ext cx="1216656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BB7B1-170F-4C85-B4CB-8CADFFADE5B7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F628F-3900-46D9-B3C8-16C91E87495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mailto:cgepmps@previd&#234;ncia.gov.br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040" y="1413000"/>
            <a:ext cx="10363320" cy="32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Calibri"/>
              </a:rPr>
              <a:t>Perfil da população brasileira ocupada, sem proteção previdenciária e com capacidade contributiv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1828440" y="5013000"/>
            <a:ext cx="853452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Brasília, dezembro de 201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16"/>
          <p:cNvSpPr/>
          <p:nvPr/>
        </p:nvSpPr>
        <p:spPr>
          <a:xfrm>
            <a:off x="550800" y="692280"/>
            <a:ext cx="11090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População desprotegida por sex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9"/>
          <p:cNvSpPr/>
          <p:nvPr/>
        </p:nvSpPr>
        <p:spPr>
          <a:xfrm>
            <a:off x="353880" y="5877000"/>
            <a:ext cx="1078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Fonte: Microdados da PNADC/IBGE 201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laboração: CGEPR/SPPS/M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Gráfico 4" descr=""/>
          <p:cNvPicPr/>
          <p:nvPr/>
        </p:nvPicPr>
        <p:blipFill>
          <a:blip r:embed="rId1"/>
          <a:stretch/>
        </p:blipFill>
        <p:spPr>
          <a:xfrm>
            <a:off x="1652760" y="1577880"/>
            <a:ext cx="8886600" cy="39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1055520" y="907920"/>
            <a:ext cx="100807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Homens desprotegidos com capacidade contributiva por posição na ocup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tângulo 4"/>
          <p:cNvSpPr/>
          <p:nvPr/>
        </p:nvSpPr>
        <p:spPr>
          <a:xfrm>
            <a:off x="2610000" y="6093000"/>
            <a:ext cx="85262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Gráfico 5" descr=""/>
          <p:cNvPicPr/>
          <p:nvPr/>
        </p:nvPicPr>
        <p:blipFill>
          <a:blip r:embed="rId1"/>
          <a:stretch/>
        </p:blipFill>
        <p:spPr>
          <a:xfrm>
            <a:off x="1274760" y="1914480"/>
            <a:ext cx="9356760" cy="418140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19"/>
          <p:cNvSpPr/>
          <p:nvPr/>
        </p:nvSpPr>
        <p:spPr>
          <a:xfrm>
            <a:off x="353880" y="6093000"/>
            <a:ext cx="1078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Fonte: Microdados da PNADC/IBGE 201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laboração: CGEPR/SPPS/M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2"/>
          <p:cNvSpPr/>
          <p:nvPr/>
        </p:nvSpPr>
        <p:spPr>
          <a:xfrm>
            <a:off x="1055520" y="907920"/>
            <a:ext cx="100807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Mulheres desprotegidas com capacidade contributiva por posição na ocup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9"/>
          <p:cNvSpPr/>
          <p:nvPr/>
        </p:nvSpPr>
        <p:spPr>
          <a:xfrm>
            <a:off x="353880" y="6093000"/>
            <a:ext cx="1078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Fonte: Microdados da PNADC/IBGE 201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laboração: CGEPR/SPPS/M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Gráfico 6" descr=""/>
          <p:cNvPicPr/>
          <p:nvPr/>
        </p:nvPicPr>
        <p:blipFill>
          <a:blip r:embed="rId1"/>
          <a:stretch/>
        </p:blipFill>
        <p:spPr>
          <a:xfrm>
            <a:off x="1920960" y="1627200"/>
            <a:ext cx="84978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5"/>
          <p:cNvSpPr/>
          <p:nvPr/>
        </p:nvSpPr>
        <p:spPr>
          <a:xfrm>
            <a:off x="334800" y="620640"/>
            <a:ext cx="115221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Grupamento de atividade trabalho principal da população desprotegidas com capacidade contribu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1055520" y="1824120"/>
          <a:ext cx="9596520" cy="4425840"/>
        </p:xfrm>
        <a:graphic>
          <a:graphicData uri="http://schemas.openxmlformats.org/drawingml/2006/table">
            <a:tbl>
              <a:tblPr/>
              <a:tblGrid>
                <a:gridCol w="2948040"/>
                <a:gridCol w="1330560"/>
                <a:gridCol w="1328760"/>
                <a:gridCol w="1330200"/>
                <a:gridCol w="1328760"/>
                <a:gridCol w="1330200"/>
              </a:tblGrid>
              <a:tr h="795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Grupamento de atividade trabalho princip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9cc2e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Hom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9cc2e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% dos Home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9cc2e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Mulh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9cc2e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% das Mulhe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9cc2e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9cc2e5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3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mércio, reparação de veículos automotores e motociclet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93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.681.2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93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1,2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93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791.7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93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1,9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93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.473.0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93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</a:tr>
              <a:tr h="195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nstruçã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.347.7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9,7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7.9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,8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.375.6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Informação, comunicação e atividades financeiras, imobiliárias, profissionais e administrativ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642.7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8,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405.9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1,2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.048.6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</a:tr>
              <a:tr h="195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Indústria ger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718.8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9,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18.0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8,8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.036.9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utros Serviç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467.9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5,9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512.6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4,2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980.5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</a:tr>
              <a:tr h="195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Serviços doméstic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77.2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803.4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2,2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880.6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Transporte, armazenagem e correio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788.0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50.9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,4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839.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</a:tr>
              <a:tr h="193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ojamento e alimentação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423.6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5,4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406.4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1,2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830.1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gricultura, pecuária, produção florestal, pesca e aquicultur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657.9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8,3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48.8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,3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706.8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</a:tr>
              <a:tr h="325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Educação, saúde humana e serviços socia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02.0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,3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52.4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7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54.4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dministração pública, defesa e seguridade social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4.5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,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.7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,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7.3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</a:tr>
              <a:tr h="193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tividades mal definid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.5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.8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</a:tr>
              <a:tr h="195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7.913.5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0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.621.6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0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1.535.1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</a:tr>
            </a:tbl>
          </a:graphicData>
        </a:graphic>
      </p:graphicFrame>
      <p:sp>
        <p:nvSpPr>
          <p:cNvPr id="314" name="Rectangle 19"/>
          <p:cNvSpPr/>
          <p:nvPr/>
        </p:nvSpPr>
        <p:spPr>
          <a:xfrm>
            <a:off x="353880" y="6243480"/>
            <a:ext cx="10784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Fonte: Microdados da PNADC/IBGE 201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laboração: CGEPR/SPPS/M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5"/>
          <p:cNvSpPr/>
          <p:nvPr/>
        </p:nvSpPr>
        <p:spPr>
          <a:xfrm>
            <a:off x="334800" y="620640"/>
            <a:ext cx="115221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Quantitativo de desprotegidos com capacidade contributiva por sexo e 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9"/>
          <p:cNvSpPr/>
          <p:nvPr/>
        </p:nvSpPr>
        <p:spPr>
          <a:xfrm>
            <a:off x="353880" y="6243480"/>
            <a:ext cx="10784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Fonte: Microdados da PNADC/IBGE 201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laboração: CGEPR/SPPS/M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Gráfico 4" descr=""/>
          <p:cNvPicPr/>
          <p:nvPr/>
        </p:nvPicPr>
        <p:blipFill>
          <a:blip r:embed="rId1"/>
          <a:stretch/>
        </p:blipFill>
        <p:spPr>
          <a:xfrm>
            <a:off x="1700280" y="1914480"/>
            <a:ext cx="921708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5"/>
          <p:cNvSpPr/>
          <p:nvPr/>
        </p:nvSpPr>
        <p:spPr>
          <a:xfrm>
            <a:off x="334800" y="620640"/>
            <a:ext cx="115221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Percentual de desprotegidos com capacidade contributiva por regi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9"/>
          <p:cNvSpPr/>
          <p:nvPr/>
        </p:nvSpPr>
        <p:spPr>
          <a:xfrm>
            <a:off x="353880" y="6243480"/>
            <a:ext cx="10784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Fonte: Microdados da PNADC/IBGE 201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laboração: CGEPR/SPPS/M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Gráfico 4" descr=""/>
          <p:cNvPicPr/>
          <p:nvPr/>
        </p:nvPicPr>
        <p:blipFill>
          <a:blip r:embed="rId1"/>
          <a:stretch/>
        </p:blipFill>
        <p:spPr>
          <a:xfrm>
            <a:off x="500040" y="1362240"/>
            <a:ext cx="1025532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5"/>
          <p:cNvSpPr/>
          <p:nvPr/>
        </p:nvSpPr>
        <p:spPr>
          <a:xfrm>
            <a:off x="263520" y="981000"/>
            <a:ext cx="115203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Quantitativo de desprotegidos com capacidade contributiva por renda em Salários Mínimos (S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9"/>
          <p:cNvSpPr/>
          <p:nvPr/>
        </p:nvSpPr>
        <p:spPr>
          <a:xfrm>
            <a:off x="353880" y="6243480"/>
            <a:ext cx="10784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Fonte: Microdados da PNADC/IBGE 201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laboração: CGEPR/SPPS/M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Gráfico 4" descr=""/>
          <p:cNvPicPr/>
          <p:nvPr/>
        </p:nvPicPr>
        <p:blipFill>
          <a:blip r:embed="rId1"/>
          <a:stretch/>
        </p:blipFill>
        <p:spPr>
          <a:xfrm>
            <a:off x="474840" y="1500120"/>
            <a:ext cx="1054224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5"/>
          <p:cNvSpPr/>
          <p:nvPr/>
        </p:nvSpPr>
        <p:spPr>
          <a:xfrm>
            <a:off x="334800" y="692280"/>
            <a:ext cx="1152216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Percentual de desprotegidos com capacidade contributiva por escolaridade e sex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9"/>
          <p:cNvSpPr/>
          <p:nvPr/>
        </p:nvSpPr>
        <p:spPr>
          <a:xfrm>
            <a:off x="353880" y="6243480"/>
            <a:ext cx="10784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Fonte: Microdados da PNADC/IBGE 201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laboração: CGEPR/SPPS/M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874800" y="2028960"/>
          <a:ext cx="10442520" cy="3935160"/>
        </p:xfrm>
        <a:graphic>
          <a:graphicData uri="http://schemas.openxmlformats.org/drawingml/2006/table">
            <a:tbl>
              <a:tblPr/>
              <a:tblGrid>
                <a:gridCol w="5211720"/>
                <a:gridCol w="1743120"/>
                <a:gridCol w="1743120"/>
                <a:gridCol w="1744560"/>
              </a:tblGrid>
              <a:tr h="245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urso mais elevado que frequento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9cc2e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m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9cc2e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lh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9cc2e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9cc2e5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7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-esco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93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93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93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93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</a:tr>
              <a:tr h="244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e de alfabetização - 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3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fabetização de jovens e adul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</a:tr>
              <a:tr h="244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tigo primário (elementa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1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2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8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tigo ginásio (médio 1º cicl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</a:tr>
              <a:tr h="244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ular do ensino fundamental ou do 1º gra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,9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1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0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ucação de jovens e adultos (EJA) ou supletivo do 1º gra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7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8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7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</a:tr>
              <a:tr h="244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tigo científico, clássico, etc. (médio 2º cicl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3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ular do ensino médio ou do 2º gra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,8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8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</a:tr>
              <a:tr h="245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ucação de jovens e adultos (EJA) ou supletivo do 2º gra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perior - graduaçã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7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9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5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</a:tr>
              <a:tr h="2462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pecialização de nível superi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2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2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8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str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</a:tr>
              <a:tr h="245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utor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5"/>
          <p:cNvSpPr/>
          <p:nvPr/>
        </p:nvSpPr>
        <p:spPr>
          <a:xfrm>
            <a:off x="353880" y="907920"/>
            <a:ext cx="1152216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Percentual de desprotegidos com capacidade contributiva por sexo e raça/c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9"/>
          <p:cNvSpPr/>
          <p:nvPr/>
        </p:nvSpPr>
        <p:spPr>
          <a:xfrm>
            <a:off x="353880" y="6243480"/>
            <a:ext cx="10784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Fonte: Microdados da PNADC/IBGE 201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laboração: CGEPR/SPPS/M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055520" y="2637000"/>
          <a:ext cx="9720360" cy="2808000"/>
        </p:xfrm>
        <a:graphic>
          <a:graphicData uri="http://schemas.openxmlformats.org/drawingml/2006/table">
            <a:tbl>
              <a:tblPr/>
              <a:tblGrid>
                <a:gridCol w="2430720"/>
                <a:gridCol w="2430360"/>
                <a:gridCol w="2428920"/>
                <a:gridCol w="2430360"/>
              </a:tblGrid>
              <a:tr h="693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xo/Raç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9cc2e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ta/Par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9cc2e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an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9cc2e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9cc2e5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26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m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93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,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93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93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93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</a:tr>
              <a:tr h="693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l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,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,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,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,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19"/>
          <p:cNvSpPr/>
          <p:nvPr/>
        </p:nvSpPr>
        <p:spPr>
          <a:xfrm>
            <a:off x="353880" y="6243480"/>
            <a:ext cx="10784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Fonte: Microdados da PNADC/IBGE 201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laboração: CGEPR/SPPS/M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353880" y="907920"/>
            <a:ext cx="1152216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alibri"/>
              </a:rPr>
              <a:t>Obrig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alibri"/>
              </a:rPr>
              <a:t>Subsecretaria de Regime Geral de Previdência Soc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alibri"/>
              </a:rPr>
              <a:t>Coordenação-Geral de Estudos Previdenciár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9454c3"/>
                </a:solidFill>
                <a:uFillTx/>
                <a:latin typeface="Calibri"/>
                <a:hlinkClick r:id="rId1"/>
              </a:rPr>
              <a:t>cgepmps@previdencia.gov.b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alibri"/>
              </a:rPr>
              <a:t>2021-50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9880" y="2420640"/>
            <a:ext cx="10362960" cy="247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Calibri"/>
              </a:rPr>
              <a:t>Proteção previdenciária da população ocupada com idade entre 16 e 59 anos, Brasil - 20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tângulo de cantos arredondados 53"/>
          <p:cNvSpPr/>
          <p:nvPr/>
        </p:nvSpPr>
        <p:spPr>
          <a:xfrm>
            <a:off x="627120" y="2781360"/>
            <a:ext cx="3940200" cy="3941640"/>
          </a:xfrm>
          <a:custGeom>
            <a:avLst/>
            <a:gdLst>
              <a:gd name="textAreaLeft" fmla="*/ 192240 w 3940200"/>
              <a:gd name="textAreaRight" fmla="*/ 3747960 w 3940200"/>
              <a:gd name="textAreaTop" fmla="*/ 192240 h 3941640"/>
              <a:gd name="textAreaBottom" fmla="*/ 3749400 h 3941640"/>
            </a:gdLst>
            <a:ahLst/>
            <a:rect l="textAreaLeft" t="textAreaTop" r="textAreaRight" b="textAreaBottom"/>
            <a:pathLst>
              <a:path w="21600" h="21608">
                <a:moveTo>
                  <a:pt x="3600" y="0"/>
                </a:moveTo>
                <a:arcTo wR="3600" hR="3600" stAng="16200000" swAng="-5400000"/>
                <a:lnTo>
                  <a:pt x="0" y="18008"/>
                </a:lnTo>
                <a:arcTo wR="3600" hR="3600" stAng="10800000" swAng="-5400000"/>
                <a:lnTo>
                  <a:pt x="18000" y="216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0eb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806"/>
          <p:cNvSpPr/>
          <p:nvPr/>
        </p:nvSpPr>
        <p:spPr>
          <a:xfrm>
            <a:off x="17640" y="668160"/>
            <a:ext cx="12174480" cy="13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norama da proteção previdenciária da população ocupada com idade entre 16 e 59 anos, Brasil -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807"/>
          <p:cNvSpPr/>
          <p:nvPr/>
        </p:nvSpPr>
        <p:spPr>
          <a:xfrm>
            <a:off x="8874000" y="5621400"/>
            <a:ext cx="298296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Fonte: Micro dados PNAD Contínua 2017 / 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Nota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0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 Na PNAD Contínua essas pessoas se autodeclaram não contribuint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 baseline="30000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pt-BR" sz="1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 Inclui </a:t>
            </a: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906.395</a:t>
            </a: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 desprotegidos com rendimento ignorado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1809"/>
          <p:cNvSpPr/>
          <p:nvPr/>
        </p:nvSpPr>
        <p:spPr>
          <a:xfrm>
            <a:off x="1008000" y="3933720"/>
            <a:ext cx="3206880" cy="9162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085db1"/>
              </a:gs>
              <a:gs pos="100000">
                <a:srgbClr val="0a7bed"/>
              </a:gs>
            </a:gsLst>
            <a:lin ang="16200000"/>
          </a:gradFill>
          <a:ln w="9360">
            <a:solidFill>
              <a:srgbClr val="247cd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CONTRIBUINTES dos Regim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Próprios Militar e  Estatutá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7,4 milhõ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1810"/>
          <p:cNvSpPr/>
          <p:nvPr/>
        </p:nvSpPr>
        <p:spPr>
          <a:xfrm>
            <a:off x="1003320" y="2997360"/>
            <a:ext cx="3206880" cy="9158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085db1"/>
              </a:gs>
              <a:gs pos="100000">
                <a:srgbClr val="0a7bed"/>
              </a:gs>
            </a:gsLst>
            <a:lin ang="16200000"/>
          </a:gradFill>
          <a:ln w="9360">
            <a:solidFill>
              <a:srgbClr val="247cd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CONTRIBUINTES do Regime Ge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de Previdência Social – RG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48,2 milhõ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1811"/>
          <p:cNvSpPr/>
          <p:nvPr/>
        </p:nvSpPr>
        <p:spPr>
          <a:xfrm>
            <a:off x="1003320" y="4869000"/>
            <a:ext cx="3206880" cy="917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085db1"/>
              </a:gs>
              <a:gs pos="100000">
                <a:srgbClr val="0a7bed"/>
              </a:gs>
            </a:gsLst>
            <a:lin ang="16200000"/>
          </a:gradFill>
          <a:ln w="9360">
            <a:solidFill>
              <a:srgbClr val="247cd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GURADOS ESPECIAIS</a:t>
            </a:r>
            <a:r>
              <a:rPr b="0" lang="pt-BR" sz="1400" spc="-1" strike="noStrike" baseline="30000">
                <a:solidFill>
                  <a:srgbClr val="ffffff"/>
                </a:solidFill>
                <a:latin typeface="Calibri"/>
              </a:rPr>
              <a:t>1</a:t>
            </a: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 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Regime Ge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2,5 milhõ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1812"/>
          <p:cNvSpPr/>
          <p:nvPr/>
        </p:nvSpPr>
        <p:spPr>
          <a:xfrm>
            <a:off x="1009800" y="6000840"/>
            <a:ext cx="3301920" cy="637920"/>
          </a:xfrm>
          <a:prstGeom prst="cube">
            <a:avLst>
              <a:gd name="adj" fmla="val 25000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NÃO CONTRIBUINTE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25 milhõ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1810"/>
          <p:cNvSpPr/>
          <p:nvPr/>
        </p:nvSpPr>
        <p:spPr>
          <a:xfrm>
            <a:off x="5557680" y="3019320"/>
            <a:ext cx="2664000" cy="8463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085db1"/>
              </a:gs>
              <a:gs pos="100000">
                <a:srgbClr val="0a7bed"/>
              </a:gs>
            </a:gsLst>
            <a:lin ang="16200000"/>
          </a:gradFill>
          <a:ln w="9360">
            <a:solidFill>
              <a:srgbClr val="247cd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BENEFICIÁ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800 m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810"/>
          <p:cNvSpPr/>
          <p:nvPr/>
        </p:nvSpPr>
        <p:spPr>
          <a:xfrm>
            <a:off x="5442120" y="4148280"/>
            <a:ext cx="2828880" cy="1100160"/>
          </a:xfrm>
          <a:prstGeom prst="cube">
            <a:avLst>
              <a:gd name="adj" fmla="val 25000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alibri"/>
              </a:rPr>
              <a:t>SOCIALM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alibri"/>
              </a:rPr>
              <a:t>DESPROTEGIDOS</a:t>
            </a:r>
            <a:r>
              <a:rPr b="1" lang="pt-BR" sz="1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pt-BR" sz="1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alibri"/>
              </a:rPr>
              <a:t>24,2 milhões (29,1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1810"/>
          <p:cNvSpPr/>
          <p:nvPr/>
        </p:nvSpPr>
        <p:spPr>
          <a:xfrm>
            <a:off x="4727520" y="5653080"/>
            <a:ext cx="1944720" cy="11606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&lt; 1 SALÁRIO MÍNIM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11,7 milhõ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810"/>
          <p:cNvSpPr/>
          <p:nvPr/>
        </p:nvSpPr>
        <p:spPr>
          <a:xfrm>
            <a:off x="6743880" y="5653080"/>
            <a:ext cx="2052360" cy="11606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IGUAL OU MAIOR 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1 SALÁRIO MÍNI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11,5 milhõ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4" name="Conector de seta reta 31"/>
          <p:cNvCxnSpPr>
            <a:stCxn id="269" idx="5"/>
            <a:endCxn id="270" idx="2"/>
          </p:cNvCxnSpPr>
          <p:nvPr/>
        </p:nvCxnSpPr>
        <p:spPr>
          <a:xfrm flipV="1">
            <a:off x="4311360" y="3547800"/>
            <a:ext cx="1246680" cy="2692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Conector de seta reta 44"/>
          <p:cNvCxnSpPr>
            <a:stCxn id="271" idx="3"/>
            <a:endCxn id="273" idx="0"/>
          </p:cNvCxnSpPr>
          <p:nvPr/>
        </p:nvCxnSpPr>
        <p:spPr>
          <a:xfrm>
            <a:off x="6719400" y="5248440"/>
            <a:ext cx="1196280" cy="405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Conector de seta reta 46"/>
          <p:cNvCxnSpPr>
            <a:stCxn id="271" idx="3"/>
            <a:endCxn id="272" idx="0"/>
          </p:cNvCxnSpPr>
          <p:nvPr/>
        </p:nvCxnSpPr>
        <p:spPr>
          <a:xfrm flipH="1">
            <a:off x="5844600" y="5248440"/>
            <a:ext cx="875160" cy="405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Conector de seta reta 182"/>
          <p:cNvCxnSpPr>
            <a:stCxn id="269" idx="5"/>
          </p:cNvCxnSpPr>
          <p:nvPr/>
        </p:nvCxnSpPr>
        <p:spPr>
          <a:xfrm flipV="1">
            <a:off x="4311720" y="4822560"/>
            <a:ext cx="1134000" cy="1418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Conector reto 124"/>
          <p:cNvSpPr/>
          <p:nvPr/>
        </p:nvSpPr>
        <p:spPr>
          <a:xfrm flipH="1">
            <a:off x="892080" y="2901960"/>
            <a:ext cx="7920" cy="29019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Conector reto 132"/>
          <p:cNvSpPr/>
          <p:nvPr/>
        </p:nvSpPr>
        <p:spPr>
          <a:xfrm>
            <a:off x="892080" y="2916360"/>
            <a:ext cx="9417240" cy="79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Conector reto 135"/>
          <p:cNvSpPr/>
          <p:nvPr/>
        </p:nvSpPr>
        <p:spPr>
          <a:xfrm flipV="1">
            <a:off x="892080" y="5803920"/>
            <a:ext cx="3497400" cy="223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Conector reto 137"/>
          <p:cNvSpPr/>
          <p:nvPr/>
        </p:nvSpPr>
        <p:spPr>
          <a:xfrm>
            <a:off x="4510080" y="3738600"/>
            <a:ext cx="0" cy="46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" name="Conector de seta reta 160"/>
          <p:cNvCxnSpPr>
            <a:endCxn id="283" idx="0"/>
          </p:cNvCxnSpPr>
          <p:nvPr/>
        </p:nvCxnSpPr>
        <p:spPr>
          <a:xfrm flipH="1">
            <a:off x="10314720" y="2911320"/>
            <a:ext cx="10440" cy="1254960"/>
          </a:xfrm>
          <a:prstGeom prst="straightConnector1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4" name="Retângulo de cantos arredondados 2104387"/>
          <p:cNvSpPr/>
          <p:nvPr/>
        </p:nvSpPr>
        <p:spPr>
          <a:xfrm>
            <a:off x="122400" y="1844640"/>
            <a:ext cx="4965480" cy="55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1d1ff"/>
              </a:gs>
              <a:gs pos="100000">
                <a:srgbClr val="e4f2ff"/>
              </a:gs>
            </a:gsLst>
            <a:lin ang="16200000"/>
          </a:gradFill>
          <a:ln w="9360">
            <a:solidFill>
              <a:srgbClr val="5d9ac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000000"/>
                </a:solidFill>
                <a:uFillTx/>
                <a:latin typeface="Calibri"/>
              </a:rPr>
              <a:t>População ocupada de 16 a 59 anos: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 83,1 milh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Conector reto 2104437"/>
          <p:cNvSpPr/>
          <p:nvPr/>
        </p:nvSpPr>
        <p:spPr>
          <a:xfrm>
            <a:off x="4330800" y="2901960"/>
            <a:ext cx="28440" cy="28875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1810"/>
          <p:cNvSpPr/>
          <p:nvPr/>
        </p:nvSpPr>
        <p:spPr>
          <a:xfrm>
            <a:off x="8858160" y="4165560"/>
            <a:ext cx="2638440" cy="11001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085db1"/>
              </a:gs>
              <a:gs pos="100000">
                <a:srgbClr val="0a7bed"/>
              </a:gs>
            </a:gsLst>
            <a:lin ang="16200000"/>
          </a:gradFill>
          <a:ln w="9360">
            <a:solidFill>
              <a:srgbClr val="247cd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alibri"/>
              </a:rPr>
              <a:t>SOCIALM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alibri"/>
              </a:rPr>
              <a:t>PROTEGID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alibri"/>
              </a:rPr>
              <a:t>58,9 milhões (70,9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6" name="Conector de seta reta 69"/>
          <p:cNvCxnSpPr>
            <a:stCxn id="270" idx="5"/>
          </p:cNvCxnSpPr>
          <p:nvPr/>
        </p:nvCxnSpPr>
        <p:spPr>
          <a:xfrm>
            <a:off x="8221680" y="3336480"/>
            <a:ext cx="2099520" cy="3960"/>
          </a:xfrm>
          <a:prstGeom prst="straightConnector1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7" name="Seta para baixo 1"/>
          <p:cNvSpPr/>
          <p:nvPr/>
        </p:nvSpPr>
        <p:spPr>
          <a:xfrm>
            <a:off x="2495520" y="2492280"/>
            <a:ext cx="287280" cy="289080"/>
          </a:xfrm>
          <a:prstGeom prst="downArrow">
            <a:avLst>
              <a:gd name="adj1" fmla="val 50000"/>
              <a:gd name="adj2" fmla="val 50313"/>
            </a:avLst>
          </a:prstGeom>
          <a:solidFill>
            <a:srgbClr val="4a66ac"/>
          </a:solidFill>
          <a:ln w="25560">
            <a:solidFill>
              <a:srgbClr val="34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2"/>
          <p:cNvSpPr/>
          <p:nvPr/>
        </p:nvSpPr>
        <p:spPr>
          <a:xfrm>
            <a:off x="1055520" y="907920"/>
            <a:ext cx="100807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Proteção previdenciária da população ocupada com idade entre 16 e 59 anos, por UF, Brasil – 2017 (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tângulo 4"/>
          <p:cNvSpPr/>
          <p:nvPr/>
        </p:nvSpPr>
        <p:spPr>
          <a:xfrm>
            <a:off x="2711520" y="6165720"/>
            <a:ext cx="85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Fonte: PNAD Contínua/IBGE – 2017 / 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Gráfico 5" descr=""/>
          <p:cNvPicPr/>
          <p:nvPr/>
        </p:nvPicPr>
        <p:blipFill>
          <a:blip r:embed="rId1"/>
          <a:stretch/>
        </p:blipFill>
        <p:spPr>
          <a:xfrm>
            <a:off x="768240" y="1579680"/>
            <a:ext cx="1072836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9"/>
          <p:cNvSpPr/>
          <p:nvPr/>
        </p:nvSpPr>
        <p:spPr>
          <a:xfrm>
            <a:off x="479520" y="6308640"/>
            <a:ext cx="1130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Fonte: PNADc/IBGE – 2017. 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"/>
          <p:cNvSpPr/>
          <p:nvPr/>
        </p:nvSpPr>
        <p:spPr>
          <a:xfrm>
            <a:off x="1055520" y="692280"/>
            <a:ext cx="1008072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teção previdenciária da população ocupada com idade entre 16 e 59 anos, por idade e sexo, Brasil – 2017 (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Gráfico 6" descr=""/>
          <p:cNvPicPr/>
          <p:nvPr/>
        </p:nvPicPr>
        <p:blipFill>
          <a:blip r:embed="rId1"/>
          <a:stretch/>
        </p:blipFill>
        <p:spPr>
          <a:xfrm>
            <a:off x="1274760" y="2060640"/>
            <a:ext cx="986328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2"/>
          <p:cNvSpPr/>
          <p:nvPr/>
        </p:nvSpPr>
        <p:spPr>
          <a:xfrm>
            <a:off x="1055520" y="2421000"/>
            <a:ext cx="10080720" cy="28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Calibri"/>
              </a:rPr>
              <a:t>1.2 Perfil da população ocupada com idade entre 16 e 59 anos, Brasil - 20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5"/>
          <p:cNvSpPr/>
          <p:nvPr/>
        </p:nvSpPr>
        <p:spPr>
          <a:xfrm>
            <a:off x="1055520" y="692280"/>
            <a:ext cx="1008072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axa de proteção de pessoas ocupadas com idade entre 16 e 59 anos por grupo de atividade, Brasil -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4008600" y="6237360"/>
            <a:ext cx="754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Fonte: PNAD Contínua/IBGE – 2017. / 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Gráfico 5" descr=""/>
          <p:cNvPicPr/>
          <p:nvPr/>
        </p:nvPicPr>
        <p:blipFill>
          <a:blip r:embed="rId1"/>
          <a:stretch/>
        </p:blipFill>
        <p:spPr>
          <a:xfrm>
            <a:off x="981000" y="2060640"/>
            <a:ext cx="10588680" cy="40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90756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alibri"/>
                <a:ea typeface="Arial"/>
              </a:rPr>
              <a:t>Percentual de proteção de pessoas ocupadas por escolaridade, Brasil - 2017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9" name="Espaço Reservado para Conteúdo 4" descr=""/>
          <p:cNvPicPr/>
          <p:nvPr/>
        </p:nvPicPr>
        <p:blipFill>
          <a:blip r:embed="rId1"/>
          <a:stretch/>
        </p:blipFill>
        <p:spPr>
          <a:xfrm>
            <a:off x="609480" y="2114640"/>
            <a:ext cx="10972800" cy="442584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9"/>
          <p:cNvSpPr/>
          <p:nvPr/>
        </p:nvSpPr>
        <p:spPr>
          <a:xfrm>
            <a:off x="731880" y="6308640"/>
            <a:ext cx="1072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Fonte: PNAD Contínua/IBGE – 2017 / 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1055520" y="2349360"/>
            <a:ext cx="1008072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Calibri"/>
                <a:ea typeface="Arabic Typesetting"/>
              </a:rPr>
              <a:t>Perfil da população brasileira ocupada, sem proteção previdenciária e com capacidade contribut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2T16:57:42Z</dcterms:created>
  <dc:creator>46163212134</dc:creator>
  <dc:description/>
  <dc:language>en-US</dc:language>
  <cp:lastModifiedBy>Silvana do Socorro Machado Rodrigues - MPS</cp:lastModifiedBy>
  <cp:lastPrinted>2017-08-23T21:50:06Z</cp:lastPrinted>
  <dcterms:modified xsi:type="dcterms:W3CDTF">2018-12-05T19:37:39Z</dcterms:modified>
  <cp:revision>697</cp:revision>
  <dc:subject/>
  <dc:title>Demografia</dc:title>
</cp:coreProperties>
</file>